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10.jpeg" ContentType="image/jpeg"/>
  <Override PartName="/ppt/media/image8.pct" ContentType="image/x-pict"/>
  <Override PartName="/ppt/media/image1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2EDF-EB28-42AD-8E72-A624EACD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ch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AF8-1EA0-4BEB-8870-1AC10AA8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285-06CB-458B-8EBB-19B8842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E75-57EA-4941-AF24-8EF7F600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924-E339-4D00-BE8B-45441D6A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986-1A85-4C6D-8CB8-B1F27CC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DC8-7566-4E29-A008-474A741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11C-AC9D-4653-B417-FA7262B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013-9A55-4AC9-A565-74F15AA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A61-1C66-4FB2-9E0C-CF1ACC24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1F3-8CE8-4DFA-B738-95527E58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F8F-33CC-4371-8A3B-833F7BE9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8F7-4EBE-46DA-A08D-5344EDE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3F35-8F36-4622-A37C-577E53213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3640" y="189000"/>
            <a:ext cx="2314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79640" y="1916280"/>
            <a:ext cx="522936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EKA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158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8000" y="18900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The cheka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828800"/>
            <a:ext cx="5562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nded: December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 name: All-Russian Extraordinary Commission for Combating Counter-Revolution and Sabotage (the changed name in 1918)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 commonly abbreviated to Cheka or VCh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mbers of Cheka are called Chekists, Soviet secret policemen were commonly referred to as “Chekist” and is still used to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ad: Felix Dzerzhinsky (also Commissar for Internal Aff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324480" y="1523880"/>
          <a:ext cx="2210040" cy="22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523880"/>
                    <a:ext cx="2210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38680" y="388620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9636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79640" y="18900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History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989000"/>
            <a:ext cx="8964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mmediately after the October Revolution, during the early days of the Bolshevik rule, the Cheka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ts immediate precursor was the commission for the struggle with counter-revolu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The Cheka was established on December 20th 1917, based on the Sovnarkom dec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The Bolsheviks could do whatever necessary to get rid of those who opposed Bolshevik rule or attempted 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4581360"/>
            <a:ext cx="9001080" cy="175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nitially, members of the Cheka were exclusively Bolshevik, but from January 1918, left Social Revolutionaries were allowed to jo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However, the left Social Revolutionaries were expelled or arrested later that year for their attempted rebellion against Bolshevik r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n 1922, the Cheka was transformed into the GPU, State Political Administ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400" y="152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Operations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ed mass arrests, imprisonments and executions of “enemies of the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ed class enim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urgeois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of cl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cal op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gated the Red Terror (Dzerzhinsky) on September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9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an attempt on the life of Len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sed repression campaigns against Petrograd Sociali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executions without tri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ed down deserters and punished any assistance towards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milies used as hos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1918-1920, estimated minimum number of people killed around 12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ressed the Kronstadt rebel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2361960" cy="156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523880"/>
          <a:ext cx="4647960" cy="30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46479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 txBox="1"/>
          <p:nvPr/>
        </p:nvSpPr>
        <p:spPr>
          <a:xfrm>
            <a:off x="2057400" y="152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VICTIMS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1371600"/>
            <a:ext cx="419112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were a huge number of people who, if against the Bolsheviks, would be killed by the Cheka. Some called them the ‘’Red horror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one said during 1918 there were about 6,000 people being killed. In 1919 (up to July) there were about 2,000. Total was about 8,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28600" y="4402080"/>
            <a:ext cx="79246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W. H. Chamberlin, who study in history said, ‘it is simply impossible to believe 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  <a:ea typeface="Hei"/>
              </a:rPr>
              <a:t>that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 the Cheka only put to death 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  <a:ea typeface="Hei"/>
              </a:rPr>
              <a:t>12,733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 people in all of Russia up to the end of the civil war.’ and he also said that there were total about 50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  <a:ea typeface="华文细黑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000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must lose their lives. However others said that it must be 500,000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So no one sure how many people be kil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28800" y="152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ATROCITIES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eka were not merciless with their victims. They w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133720"/>
            <a:ext cx="302112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ned alive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ped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wned with barbed w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cified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ged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ned to death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d to planks and pushed slowly into furnaces or tanks of boiling wat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ed around naked in internally nail studded barr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2360" y="2133720"/>
            <a:ext cx="51116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ould even pour water on naked prisoners out in the streets during winter until they froze to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s beheaded their victims by twisting their necks until their heads could be torn of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men and children were also victims. The women would be tortured and raped before being shot, and children between the ages of 8 to 16 were imprisoned and occasionally execu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209680" cy="185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54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106668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562720" y="5181480"/>
            <a:ext cx="22860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79640" y="18900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POPULARITY 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676520"/>
            <a:ext cx="3124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r staples in Soviet film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e to romanticization of organization during post-stali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d useful action/detectio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287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5013360"/>
            <a:ext cx="8661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livia, richard, nathan and ashley :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32000" y="189000"/>
            <a:ext cx="26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71640" y="1773360"/>
            <a:ext cx="288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32:01Z</dcterms:created>
  <dc:creator>ashley martin</dc:creator>
  <dc:description/>
  <dc:language>en-US</dc:language>
  <cp:lastModifiedBy>apple apple</cp:lastModifiedBy>
  <dcterms:modified xsi:type="dcterms:W3CDTF">2007-11-08T04:11:01Z</dcterms:modified>
  <cp:revision>22</cp:revision>
  <dc:subject/>
  <dc:title>Slide 1</dc:title>
</cp:coreProperties>
</file>